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0E9-211C-49C2-8BB4-7EA5047F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F86-48A6-4960-8734-1D40DE3C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F63-1D25-4771-8433-FAE960F1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49D-E640-4657-B164-A2883D04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6D1-58AC-4434-B8DC-99A328B1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0EA-892B-4ADC-81B6-218BF226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F87-507A-4044-9CFD-96E62609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086-3813-4E75-ABBB-5396A7DB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95E-CC32-428E-885D-BF9D95B3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F17-C97E-4D32-B024-83B97D61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2EA-0379-4E92-8B16-EEA38C29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743-6F46-4F9D-A62B-303F9929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E270-BED2-4456-8944-3DC836DD7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Mat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06F3-5686-45E1-B457-E2A4C2B51BC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6320" y="838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</a:rPr>
              <a:t>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6320" y="2028960"/>
            <a:ext cx="4267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tter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Income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 is money that comes fro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elf-employmen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Public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hild support or al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nterest and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Other sources (e.g., 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324480" y="2514600"/>
            <a:ext cx="24274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ss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cial Security income includ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abilit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vivor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dicare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50532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048120" y="1801800"/>
            <a:ext cx="55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 – dedu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 expenses do not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expenses often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y have some control over how much you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for the best value before committing to any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Monthly Income and Expense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Income and Expenses worksh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income sources and income amounts to the lef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expenses and amounts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TextBox 4"/>
          <p:cNvSpPr/>
          <p:nvPr/>
        </p:nvSpPr>
        <p:spPr>
          <a:xfrm>
            <a:off x="1377000" y="1039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510720" y="1430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518280" y="1887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&amp;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516480" y="23130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14320" y="27511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500640" y="31766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11800" y="36212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512160" y="4052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522600" y="44956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4960800" y="10396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rease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reasing spending increases your cash fl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What are some ways you can cut back on your spend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rease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that may help to increase your income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ed Income Tax Credit (EITC or E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ild tax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for child and dependent car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for retirement savings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Accurate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records in a safe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rganize your files so it is easy to update and find important financi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your tax records for at least 3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Mail bill payments at least 1 week before they are due to avoid late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3: Monthly Payment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Payment Schedu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income sources and date recei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expenses, due dates, and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ampl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95280"/>
          <a:ext cx="7925040" cy="396252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743200"/>
                <a:gridCol w="198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75 due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,000 due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rans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ersonal 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5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redit Card Pay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40 due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4: Monthly Payment Calend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the Monthly Payment Calend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nter the income and expense amounts on the appropriate d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Spending Plan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nse Envelop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udget Box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uter Spreadsheet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9144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198108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n There Are More Expenses Than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payments should you make first if you cannot pay all of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necessary household expenses first (rent, mortgage, f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the health and safety of your family when prioritizing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ek assistance to help cov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ing Your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having trouble paying your loans, consid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ing off the loan with the highest interest rat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lking to your cred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etting credit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ing bankruptcy (last resort onl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5: Spending Plan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5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benefits of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create a spending plan to track your daily spending and monthly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the “Monthly Spending Schedule” and the “Monthly Spending Calenda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onsiderations to keep in mind when planning your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List the steps for setting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Track daily spending hab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pare a personal spending plan to estimate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spending plan tools that will help you manage your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Helvetica Neue"/>
              </a:rPr>
              <a:t>managing your mone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tting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m specific to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want within a certain tim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nd write down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ze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uate you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73880" y="327348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06800" y="4565520"/>
            <a:ext cx="2073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y Create a Spending Pl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s a step-by-step plan for meeting expenses in a given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reduce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build as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pending Plan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daily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ack Daily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know where your money goes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derstand where your money goes by track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a personal spending d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Daily Spending Di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Daily Spending Dia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the money you have spent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17:22Z</dcterms:modified>
  <cp:revision>2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